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A3DCD-AFDC-49AE-8E45-2FDBA8254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EE69-029C-489B-90A7-8A1DE7C16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0852-9456-416C-8E0E-62B62857A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788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8996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FF95-5CBC-46D8-AB3B-C4F746D62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DD8E-5F81-4F64-A52F-1E97AF5DBA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84C7-2C7E-440B-A40D-5610FC72EF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D0D17-7222-4C72-B009-507391E013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A1555-635C-4567-AFE3-156152FC15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4C5A-94B3-4663-93E7-EC90B21BBB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6870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60EEF-C39C-40A4-BDF6-0154099A09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0AF9-52BE-4AD5-B909-D6354E37F5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75E0-F574-46DB-861D-92DD47180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A5062-8144-4782-B69C-5950F7AB0D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8F08-2E30-4A92-819D-4BA6FDBD4F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F9D89-2F1E-4C4E-AAB6-6600C6C111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A6A6-2406-44F3-9042-D6C7285701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788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89960" y="4455720"/>
            <a:ext cx="24778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B54D-A65F-4553-A4BB-4B472F19B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5A6A8-CADC-403C-8E28-0FCEE6DB4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878C-0943-49C0-AEB1-E8074F0DD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6020-9C20-4724-9D10-589292A0F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0"/>
            <a:ext cx="68706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5662-3AAB-41AC-B3D9-E6BB26168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1F33-B69C-4895-A623-3EB805DDA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9600" y="445572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0AE3-231D-4F4B-8332-D0321639E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455720"/>
            <a:ext cx="7696080" cy="239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8A9CA-1A61-4E2F-A956-F1630B43B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303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5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1200" y="6248520"/>
            <a:ext cx="303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FE8C-F7DE-4FCA-8F7D-74821C25DCD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036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303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875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4472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516800" y="6248520"/>
            <a:ext cx="3031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55C3-3A68-4B4C-BCCB-9C55C01DABFF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0" name="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4" name="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9080" y="397080"/>
                <a:ext cx="360360" cy="65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7706160" y="4231800"/>
            <a:ext cx="1163520" cy="1324080"/>
            <a:chOff x="7706160" y="4231800"/>
            <a:chExt cx="1163520" cy="1324080"/>
          </a:xfrm>
        </p:grpSpPr>
        <p:sp>
          <p:nvSpPr>
            <p:cNvPr id="90" name=""/>
            <p:cNvSpPr/>
            <p:nvPr/>
          </p:nvSpPr>
          <p:spPr>
            <a:xfrm rot="7320000">
              <a:off x="7791840" y="4655160"/>
              <a:ext cx="99396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 rot="7320000">
              <a:off x="7767720" y="4634640"/>
              <a:ext cx="990720" cy="4618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"/>
            <p:cNvSpPr/>
            <p:nvPr/>
          </p:nvSpPr>
          <p:spPr>
            <a:xfrm rot="7320000">
              <a:off x="7930080" y="4620600"/>
              <a:ext cx="660240" cy="4204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706160" y="4231800"/>
              <a:ext cx="1163520" cy="1324080"/>
              <a:chOff x="7706160" y="4231800"/>
              <a:chExt cx="1163520" cy="1324080"/>
            </a:xfrm>
          </p:grpSpPr>
          <p:sp>
            <p:nvSpPr>
              <p:cNvPr id="94" name=""/>
              <p:cNvSpPr/>
              <p:nvPr/>
            </p:nvSpPr>
            <p:spPr>
              <a:xfrm rot="7320000">
                <a:off x="7808040" y="5065920"/>
                <a:ext cx="102600" cy="12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7320000">
                <a:off x="7710120" y="4568760"/>
                <a:ext cx="1155240" cy="65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7320000">
                <a:off x="8038080" y="4708440"/>
                <a:ext cx="821160" cy="37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7320000">
                <a:off x="8595720" y="4503240"/>
                <a:ext cx="109440" cy="24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7320000">
                <a:off x="8143560" y="4726800"/>
                <a:ext cx="336240" cy="217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9" name=""/>
          <p:cNvSpPr/>
          <p:nvPr/>
        </p:nvSpPr>
        <p:spPr>
          <a:xfrm>
            <a:off x="901800" y="5054760"/>
            <a:ext cx="6807240" cy="723600"/>
          </a:xfrm>
          <a:custGeom>
            <a:avLst/>
            <a:gdLst/>
            <a:ahLst/>
            <a:rect l="l" t="t" r="r" b="b"/>
            <a:pathLst>
              <a:path w="21600" h="21460">
                <a:moveTo>
                  <a:pt x="0" y="0"/>
                </a:moveTo>
                <a:cubicBezTo>
                  <a:pt x="685" y="2024"/>
                  <a:pt x="2801" y="10918"/>
                  <a:pt x="4110" y="12047"/>
                </a:cubicBezTo>
                <a:cubicBezTo>
                  <a:pt x="5420" y="13176"/>
                  <a:pt x="6987" y="5835"/>
                  <a:pt x="7858" y="6776"/>
                </a:cubicBezTo>
                <a:cubicBezTo>
                  <a:pt x="8730" y="7718"/>
                  <a:pt x="8689" y="17647"/>
                  <a:pt x="9349" y="17694"/>
                </a:cubicBezTo>
                <a:cubicBezTo>
                  <a:pt x="10009" y="17741"/>
                  <a:pt x="10397" y="6541"/>
                  <a:pt x="11807" y="7153"/>
                </a:cubicBezTo>
                <a:cubicBezTo>
                  <a:pt x="13218" y="7765"/>
                  <a:pt x="16180" y="21600"/>
                  <a:pt x="17812" y="21459"/>
                </a:cubicBezTo>
                <a:cubicBezTo>
                  <a:pt x="19444" y="21318"/>
                  <a:pt x="20980" y="8847"/>
                  <a:pt x="21600" y="6400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076640" y="1952640"/>
            <a:ext cx="889200" cy="357120"/>
          </a:xfrm>
          <a:custGeom>
            <a:avLst/>
            <a:gdLst/>
            <a:ahLst/>
            <a:rect l="l" t="t" r="r" b="b"/>
            <a:pathLst>
              <a:path w="21600" h="20274">
                <a:moveTo>
                  <a:pt x="0" y="2880"/>
                </a:moveTo>
                <a:cubicBezTo>
                  <a:pt x="3934" y="8010"/>
                  <a:pt x="7907" y="13230"/>
                  <a:pt x="10800" y="12960"/>
                </a:cubicBezTo>
                <a:cubicBezTo>
                  <a:pt x="13693" y="12690"/>
                  <a:pt x="15467" y="0"/>
                  <a:pt x="17280" y="1440"/>
                </a:cubicBezTo>
                <a:cubicBezTo>
                  <a:pt x="19093" y="2880"/>
                  <a:pt x="20867" y="18090"/>
                  <a:pt x="21600" y="2160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6400800" cy="3784680"/>
          </a:xfrm>
          <a:prstGeom prst="rect">
            <a:avLst/>
          </a:prstGeom>
          <a:noFill/>
          <a:ln w="0">
            <a:noFill/>
          </a:ln>
          <a:effectLst>
            <a:outerShdw dist="50621" dir="2021404" blurRad="0" rotWithShape="0">
              <a:srgbClr val="ffb800">
                <a:alpha val="75000"/>
              </a:srgbClr>
            </a:outerShdw>
          </a:effectLst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active Note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4038480"/>
            <a:ext cx="6032520" cy="28195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9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Key to Succes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9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Social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9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52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52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52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53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rcRect l="19374" t="13322" r="5101" b="8322"/>
          <a:stretch/>
        </p:blipFill>
        <p:spPr>
          <a:xfrm>
            <a:off x="685800" y="1828800"/>
            <a:ext cx="2171880" cy="289548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2"/>
          <a:srcRect l="11663" t="8786" r="4232" b="7014"/>
          <a:stretch/>
        </p:blipFill>
        <p:spPr>
          <a:xfrm>
            <a:off x="3352680" y="1828800"/>
            <a:ext cx="2173320" cy="289548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rcRect l="17766" t="11111" r="5315" b="15541"/>
          <a:stretch/>
        </p:blipFill>
        <p:spPr>
          <a:xfrm>
            <a:off x="5943600" y="1828800"/>
            <a:ext cx="22813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7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57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57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57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58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8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crost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rcRect l="16929" t="0" r="6918" b="10224"/>
          <a:stretch/>
        </p:blipFill>
        <p:spPr>
          <a:xfrm>
            <a:off x="304920" y="182880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rcRect l="15207" t="5722" r="1033" b="14286"/>
          <a:stretch/>
        </p:blipFill>
        <p:spPr>
          <a:xfrm>
            <a:off x="3124080" y="1828800"/>
            <a:ext cx="2814840" cy="35812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rcRect l="9203" t="6903" r="17323" b="13806"/>
          <a:stretch/>
        </p:blipFill>
        <p:spPr>
          <a:xfrm>
            <a:off x="6172200" y="1828800"/>
            <a:ext cx="24908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2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62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62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62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63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ic Stri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rcRect l="7530" t="0" r="9450" b="9498"/>
          <a:stretch/>
        </p:blipFill>
        <p:spPr>
          <a:xfrm>
            <a:off x="152280" y="1066680"/>
            <a:ext cx="3733920" cy="251784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rcRect l="8711" t="4356" r="0" b="8712"/>
          <a:stretch/>
        </p:blipFill>
        <p:spPr>
          <a:xfrm>
            <a:off x="2666880" y="3657600"/>
            <a:ext cx="3200400" cy="304812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rcRect l="11718" t="0" r="10168" b="16708"/>
          <a:stretch/>
        </p:blipFill>
        <p:spPr>
          <a:xfrm>
            <a:off x="4648320" y="1066680"/>
            <a:ext cx="3581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4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7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67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67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67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7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68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nn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6681" t="5906" r="8896" b="23081"/>
          <a:stretch/>
        </p:blipFill>
        <p:spPr>
          <a:xfrm>
            <a:off x="457200" y="1676520"/>
            <a:ext cx="3733920" cy="32004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rcRect l="12145" t="13583" r="14950" b="18652"/>
          <a:stretch/>
        </p:blipFill>
        <p:spPr>
          <a:xfrm>
            <a:off x="4495680" y="1752480"/>
            <a:ext cx="381024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96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22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723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726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727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28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729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37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ht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ight side belongs to me and should only contain teacher directed guided notes or handouts.  Nothing else should be placed on this page!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113040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5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71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772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775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776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778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86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Right Side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Gui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BQ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259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94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08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20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821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824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825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827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35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udent Materi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ject Notebook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ncil--NO mechanical penci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red pencils and/or cray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lue sticks (2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ligh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4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5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6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86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87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87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87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8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ing the Interactive Note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No ripped out pages or torn corn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70c0"/>
                </a:solidFill>
                <a:uFillTx/>
                <a:latin typeface="Comic Sans MS"/>
              </a:rPr>
              <a:t>No doodling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that doesn’t relate to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otebook should only be used in Social Studies.  (No other classes!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dc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c000"/>
                </a:solidFill>
                <a:latin typeface="Comic Sans MS"/>
              </a:rPr>
              <a:t>This is YOUR journal, it will be a direct reflection of who YOU ar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c000"/>
                </a:solidFill>
                <a:latin typeface="Comic Sans MS"/>
              </a:rPr>
              <a:t>TAKE OWNERSHI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137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138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140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ve you ever heard yourself say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-1440" y="1523880"/>
            <a:ext cx="41907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Black"/>
              </a:rPr>
              <a:t>I can't find my . . .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  <a:ea typeface="Arial Black"/>
              </a:rPr>
              <a:t>notes, homework, old quizzes . . 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605960" y="5562720"/>
            <a:ext cx="732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Impact"/>
                <a:ea typeface="Impact"/>
              </a:rPr>
              <a:t>I was absent last week, did I miss anyth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674240" y="1981080"/>
            <a:ext cx="3721680" cy="853560"/>
          </a:xfrm>
          <a:prstGeom prst="rect">
            <a:avLst/>
          </a:prstGeom>
          <a:noFill/>
          <a:ln w="0">
            <a:noFill/>
          </a:ln>
          <a:effectLst>
            <a:outerShdw dist="50911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I can't remember wha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Times New Roman"/>
                <a:ea typeface="Times New Roman"/>
              </a:rPr>
              <a:t>we did in class yester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498480" y="3352680"/>
            <a:ext cx="2091240" cy="1220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I'm sure its in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locker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book bag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03ab"/>
                </a:solidFill>
                <a:latin typeface="Arial Black"/>
                <a:ea typeface="Arial Black"/>
              </a:rPr>
              <a:t>my room . .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8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185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188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189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191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t it together with you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2415960" y="2057400"/>
            <a:ext cx="4104360" cy="1920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a603ab"/>
                </a:solidFill>
                <a:latin typeface="Arial Black"/>
                <a:ea typeface="Arial Black"/>
              </a:rPr>
              <a:t>Interactive</a:t>
            </a:r>
            <a:endParaRPr b="0" lang="en-US" sz="6300" spc="-1" strike="noStrike">
              <a:solidFill>
                <a:srgbClr val="000000"/>
              </a:solidFill>
              <a:latin typeface="Comic Sans MS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a603ab"/>
                </a:solidFill>
                <a:latin typeface="Arial Black"/>
                <a:ea typeface="Arial Black"/>
              </a:rPr>
              <a:t>Notebook</a:t>
            </a:r>
            <a:endParaRPr b="0" lang="en-US" sz="6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6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233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236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237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239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n Interactive Notebook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ersonalized 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working portfolio – all of your notes, classwork, quizzes – in one convenient spo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54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8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281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284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285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287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ft Side – Right Side Ori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ft side is “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you.  This is the side that you can use to reflect information from the right si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ight side is “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estri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for teacher guided notes and handouts.  Nothing else should be placed on the Right side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0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2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32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33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33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33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ft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ft side belongs to you.  It contains your warm-up (question mark) and the day’s activity (light bulb).  On this page you may include diagrams, cartoons, drawings, poems, foldables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85068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52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62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78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379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382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383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84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385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 of Left Side Assig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rm-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pi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g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881520" y="2057400"/>
            <a:ext cx="4076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01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27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428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431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432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434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42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ertis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0" t="0" r="3921" b="5883"/>
          <a:stretch/>
        </p:blipFill>
        <p:spPr>
          <a:xfrm>
            <a:off x="1447920" y="1650960"/>
            <a:ext cx="7086600" cy="47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rot="18420000">
            <a:off x="7775280" y="-15840"/>
            <a:ext cx="1162080" cy="2079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rot="18420000">
            <a:off x="7860240" y="17640"/>
            <a:ext cx="1165320" cy="209736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 rot="18420000">
            <a:off x="7828560" y="186120"/>
            <a:ext cx="1025640" cy="15732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49" name="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0040" y="5605560"/>
              <a:ext cx="214200" cy="1936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5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75" name=""/>
          <p:cNvGrpSpPr/>
          <p:nvPr/>
        </p:nvGrpSpPr>
        <p:grpSpPr>
          <a:xfrm>
            <a:off x="8680320" y="2116080"/>
            <a:ext cx="387000" cy="4308480"/>
            <a:chOff x="8680320" y="2116080"/>
            <a:chExt cx="387000" cy="4308480"/>
          </a:xfrm>
        </p:grpSpPr>
        <p:sp>
          <p:nvSpPr>
            <p:cNvPr id="476" name=""/>
            <p:cNvSpPr/>
            <p:nvPr/>
          </p:nvSpPr>
          <p:spPr>
            <a:xfrm flipH="1">
              <a:off x="8680320" y="4159080"/>
              <a:ext cx="32400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738280" y="2116080"/>
              <a:ext cx="32868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890760" y="-150480"/>
            <a:ext cx="2980800" cy="2844360"/>
            <a:chOff x="6890760" y="-150480"/>
            <a:chExt cx="2980800" cy="2844360"/>
          </a:xfrm>
        </p:grpSpPr>
        <p:grpSp>
          <p:nvGrpSpPr>
            <p:cNvPr id="479" name=""/>
            <p:cNvGrpSpPr/>
            <p:nvPr/>
          </p:nvGrpSpPr>
          <p:grpSpPr>
            <a:xfrm>
              <a:off x="6890760" y="-150480"/>
              <a:ext cx="2980800" cy="2844360"/>
              <a:chOff x="6890760" y="-150480"/>
              <a:chExt cx="2980800" cy="2844360"/>
            </a:xfrm>
          </p:grpSpPr>
          <p:sp>
            <p:nvSpPr>
              <p:cNvPr id="480" name=""/>
              <p:cNvSpPr/>
              <p:nvPr/>
            </p:nvSpPr>
            <p:spPr>
              <a:xfrm rot="18420000">
                <a:off x="8614800" y="17218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1" name=""/>
              <p:cNvGrpSpPr/>
              <p:nvPr/>
            </p:nvGrpSpPr>
            <p:grpSpPr>
              <a:xfrm>
                <a:off x="6890760" y="-150480"/>
                <a:ext cx="2980800" cy="2844360"/>
                <a:chOff x="6890760" y="-150480"/>
                <a:chExt cx="2980800" cy="2844360"/>
              </a:xfrm>
            </p:grpSpPr>
            <p:sp>
              <p:nvSpPr>
                <p:cNvPr id="482" name=""/>
                <p:cNvSpPr/>
                <p:nvPr/>
              </p:nvSpPr>
              <p:spPr>
                <a:xfrm rot="18420000">
                  <a:off x="7773480" y="-25560"/>
                  <a:ext cx="34956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18420000">
                  <a:off x="7896600" y="637200"/>
                  <a:ext cx="6145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18420000">
                  <a:off x="7498080" y="406080"/>
                  <a:ext cx="1151640" cy="1621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rot="18420000">
                  <a:off x="7514640" y="58320"/>
                  <a:ext cx="1732680" cy="2426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rot="18420000">
                  <a:off x="8368200" y="1853280"/>
                  <a:ext cx="38592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18420000">
                  <a:off x="8284320" y="1650600"/>
                  <a:ext cx="4136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rot="18420000">
                  <a:off x="7800840" y="296640"/>
                  <a:ext cx="41364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18420000">
                  <a:off x="7735320" y="131760"/>
                  <a:ext cx="40896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90" name=""/>
            <p:cNvSpPr/>
            <p:nvPr/>
          </p:nvSpPr>
          <p:spPr>
            <a:xfrm>
              <a:off x="772632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llustrated Out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rcRect l="5767" t="1921" r="3844" b="2926"/>
          <a:stretch/>
        </p:blipFill>
        <p:spPr>
          <a:xfrm>
            <a:off x="914400" y="1765440"/>
            <a:ext cx="762012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linda L. Gannon</dc:creator>
  <dc:description/>
  <dc:language>en-US</dc:language>
  <cp:lastModifiedBy/>
  <cp:revision>0</cp:revision>
  <dc:subject/>
  <dc:title>Interactive Notebook</dc:title>
</cp:coreProperties>
</file>